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853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8920" y="4022640"/>
            <a:ext cx="8853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8920" y="402264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5640" y="402264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2320" y="105228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65720" y="105228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8920" y="402264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2320" y="402264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65720" y="402264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1AE24-6642-46E8-A71D-A5F79510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853480" cy="56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DFED1-0EDD-4291-B3D0-B965CFFF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85348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6C2B3-E902-4B0A-AD05-7A6383F5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83959-A420-4100-9B26-24E90DB3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8425E2-C0F9-452E-9346-1940467E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8000" y="0"/>
            <a:ext cx="8781840" cy="41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18AE1-9A4E-4EE1-B4BE-CCB82138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78920" y="402264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04D83-23E6-476E-B8E8-87E29483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853480" cy="56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5640" y="402264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C4675-B28E-41B0-9C82-020C7EAA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78920" y="4022640"/>
            <a:ext cx="8853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8D097-1941-43D5-A729-F63FD167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853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78920" y="4022640"/>
            <a:ext cx="8853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1DAD9-096C-45C6-A624-9D4FBDDD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402264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5640" y="402264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8C629-50D3-4893-81A1-C54E137B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72320" y="105228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5720" y="105228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78920" y="402264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72320" y="402264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5720" y="4022640"/>
            <a:ext cx="2850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E8477-7115-4CA0-95D8-81491B1A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85348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08000" y="0"/>
            <a:ext cx="8781840" cy="419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8920" y="402264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5640" y="402264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640" y="1052280"/>
            <a:ext cx="432036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8920" y="4022640"/>
            <a:ext cx="8853480" cy="271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78184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0099cc"/>
                </a:solidFill>
                <a:latin typeface="Arial Rounded MT Bold"/>
              </a:rPr>
              <a:t>Click to edit the title text format</a:t>
            </a:r>
            <a:endParaRPr b="1" lang="en-US" sz="3600" spc="-1" strike="noStrike">
              <a:solidFill>
                <a:srgbClr val="0099cc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853480" cy="56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 Rounded MT Bold"/>
              </a:rPr>
              <a:t>Click to edit the outline text format</a:t>
            </a: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 Rounded MT Bold"/>
              </a:rPr>
              <a:t>Second Outline Level</a:t>
            </a: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 Rounded MT Bold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5f5f5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532360" y="6597720"/>
            <a:ext cx="608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F5BC1-CA8B-4DFD-AE82-E8056D89CE37}" type="slidenum"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312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609212-3C6B-4748-B69F-043B1A6C64D2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8000" y="0"/>
            <a:ext cx="8785080" cy="67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  <a:ea typeface="Microsoft YaHei"/>
              </a:rPr>
              <a:t>Interior Routing protoc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349"/>
              </a:spcBef>
              <a:spcAft>
                <a:spcPts val="850"/>
              </a:spcAft>
              <a:buClr>
                <a:srgbClr val="5f5f5f"/>
              </a:buClr>
              <a:buFont typeface="Wingdings" charset="2"/>
              <a:buChar char="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 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Distance Victor Routing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349"/>
              </a:spcBef>
              <a:spcAft>
                <a:spcPts val="850"/>
              </a:spcAft>
              <a:buClr>
                <a:srgbClr val="5f5f5f"/>
              </a:buClr>
              <a:buFont typeface="Wingdings" charset="2"/>
              <a:buChar char="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 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Link State Routing Protoc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03280" y="2365200"/>
            <a:ext cx="84121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triggerded up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944640"/>
            <a:ext cx="87854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spcBef>
                <a:spcPts val="1701"/>
              </a:spcBef>
              <a:spcAft>
                <a:spcPts val="17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Rounded MT Bold"/>
              </a:rPr>
              <a:t>If the link A-D failes, A &amp; D will update thier table with value of </a:t>
            </a:r>
            <a:r>
              <a:rPr b="0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16</a:t>
            </a:r>
            <a:r>
              <a:rPr b="0" lang="en-CA" sz="2400" spc="-1" strike="noStrike">
                <a:solidFill>
                  <a:srgbClr val="000000"/>
                </a:solidFill>
                <a:latin typeface="Arial Rounded MT Bold"/>
              </a:rPr>
              <a:t> (</a:t>
            </a:r>
            <a:r>
              <a:rPr b="0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∞</a:t>
            </a:r>
            <a:r>
              <a:rPr b="0" lang="en-CA" sz="2400" spc="-1" strike="noStrike">
                <a:solidFill>
                  <a:srgbClr val="000000"/>
                </a:solidFill>
                <a:latin typeface="Arial Rounded MT Bold"/>
              </a:rPr>
              <a:t> : unreachable)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 Rounded MT Bold"/>
              </a:rPr>
              <a:t>A &amp; D will send triggered updates (their entire) table to their neighbors. 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 Rounded MT Bold"/>
              </a:rPr>
              <a:t>This causes the network to recalculate Bellman algorithm. Finally the network will converge after a w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35640" y="4387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600" spc="-1" strike="noStrike">
                <a:solidFill>
                  <a:srgbClr val="3366cc"/>
                </a:solidFill>
                <a:latin typeface="Arial"/>
              </a:rPr>
              <a:t>A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RIP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904000" y="4843440"/>
            <a:ext cx="863640" cy="144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83280" y="5111640"/>
            <a:ext cx="1800" cy="432000"/>
          </a:xfrm>
          <a:prstGeom prst="line">
            <a:avLst/>
          </a:prstGeom>
          <a:ln cap="sq" w="68400">
            <a:solidFill>
              <a:srgbClr val="94006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48360" y="5178600"/>
            <a:ext cx="4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272360" y="568800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600" spc="-1" strike="noStrike">
                <a:solidFill>
                  <a:srgbClr val="800080"/>
                </a:solidFill>
                <a:latin typeface="Arial"/>
              </a:rPr>
              <a:t>D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04000" y="4608360"/>
            <a:ext cx="863640" cy="1800"/>
          </a:xfrm>
          <a:prstGeom prst="line">
            <a:avLst/>
          </a:prstGeom>
          <a:ln cap="sq" w="684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272360" y="4821120"/>
            <a:ext cx="1440" cy="717840"/>
          </a:xfrm>
          <a:prstGeom prst="line">
            <a:avLst/>
          </a:prstGeom>
          <a:ln cap="sq" w="684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97680" y="43196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600" spc="-1" strike="noStrike">
                <a:solidFill>
                  <a:srgbClr val="ff0000"/>
                </a:solidFill>
                <a:latin typeface="Arial"/>
              </a:rPr>
              <a:t>C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726160" y="3739680"/>
            <a:ext cx="1042920" cy="88740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7196040" y="5040360"/>
            <a:ext cx="1230480" cy="720720"/>
          </a:xfrm>
          <a:prstGeom prst="line">
            <a:avLst/>
          </a:prstGeom>
          <a:ln cap="sq" w="68400">
            <a:solidFill>
              <a:srgbClr val="94006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20800" y="4017960"/>
          <a:ext cx="2708280" cy="2103480"/>
        </p:xfrm>
        <a:graphic>
          <a:graphicData uri="http://schemas.openxmlformats.org/drawingml/2006/table">
            <a:tbl>
              <a:tblPr/>
              <a:tblGrid>
                <a:gridCol w="347760"/>
                <a:gridCol w="455400"/>
                <a:gridCol w="48276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ff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ff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ff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03280" y="996840"/>
            <a:ext cx="84121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Final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RIP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904000" y="4843440"/>
            <a:ext cx="863640" cy="1440"/>
          </a:xfrm>
          <a:prstGeom prst="line">
            <a:avLst/>
          </a:prstGeom>
          <a:ln cap="sq" w="68400">
            <a:solidFill>
              <a:srgbClr val="004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48360" y="5178600"/>
            <a:ext cx="4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981840" y="5110200"/>
            <a:ext cx="1440" cy="434880"/>
          </a:xfrm>
          <a:prstGeom prst="line">
            <a:avLst/>
          </a:prstGeom>
          <a:ln cap="sq" w="68400">
            <a:solidFill>
              <a:srgbClr val="0047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6160" y="3739680"/>
            <a:ext cx="1042920" cy="887400"/>
          </a:xfrm>
          <a:prstGeom prst="line">
            <a:avLst/>
          </a:prstGeom>
          <a:ln cap="sq" w="68400">
            <a:solidFill>
              <a:srgbClr val="0047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198920" y="3743280"/>
            <a:ext cx="1227240" cy="866880"/>
          </a:xfrm>
          <a:prstGeom prst="line">
            <a:avLst/>
          </a:prstGeom>
          <a:ln cap="sq" w="68400">
            <a:solidFill>
              <a:srgbClr val="0047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19000" y="2936880"/>
          <a:ext cx="2708280" cy="210348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4535640" y="4495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600" spc="-1" strike="noStrike">
                <a:solidFill>
                  <a:srgbClr val="3366cc"/>
                </a:solidFill>
                <a:latin typeface="Arial"/>
              </a:rPr>
              <a:t>SPT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60360" y="735120"/>
            <a:ext cx="878508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spcBef>
                <a:spcPts val="1638"/>
              </a:spcBef>
              <a:spcAft>
                <a:spcPts val="11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Each router advertises its LSA with link information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Each router will have a copy of the entire topology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The shortest path tree is calculated using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Dijkstra algorithm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on each rou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Link State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3680" y="3070080"/>
          <a:ext cx="4071600" cy="2103480"/>
        </p:xfrm>
        <a:graphic>
          <a:graphicData uri="http://schemas.openxmlformats.org/drawingml/2006/table">
            <a:tbl>
              <a:tblPr/>
              <a:tblGrid>
                <a:gridCol w="521640"/>
                <a:gridCol w="685440"/>
                <a:gridCol w="725760"/>
                <a:gridCol w="767880"/>
                <a:gridCol w="747360"/>
                <a:gridCol w="623520"/>
              </a:tblGrid>
              <a:tr h="428040">
                <a:tc>
                  <a:txBody>
                    <a:bodyPr lIns="90000" rIns="90000" tIns="759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776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776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776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776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776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9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1638"/>
                        </a:spcBef>
                        <a:spcAft>
                          <a:spcPts val="1137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4824360" y="71280"/>
          <a:ext cx="4176720" cy="33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4360" y="71280"/>
                    <a:ext cx="4176720" cy="33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Link State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052640" y="3230640"/>
          <a:ext cx="7815240" cy="2103120"/>
        </p:xfrm>
        <a:graphic>
          <a:graphicData uri="http://schemas.openxmlformats.org/drawingml/2006/table">
            <a:tbl>
              <a:tblPr/>
              <a:tblGrid>
                <a:gridCol w="1003320"/>
                <a:gridCol w="1314360"/>
                <a:gridCol w="1393920"/>
                <a:gridCol w="1473120"/>
                <a:gridCol w="1434960"/>
                <a:gridCol w="1195560"/>
              </a:tblGrid>
              <a:tr h="363240"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48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204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(B) P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204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(C) P(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204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(D) P(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32040" bIns="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(E) P(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89440"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94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2268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∞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2268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2268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2268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∞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∞</a:t>
                      </a: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60360" y="1344600"/>
            <a:ext cx="87850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spcBef>
                <a:spcPts val="1638"/>
              </a:spcBef>
              <a:spcAft>
                <a:spcPts val="11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Here we are calculating RT f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2152800" y="3029040"/>
          <a:ext cx="4867200" cy="37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029040"/>
                    <a:ext cx="4867200" cy="37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31640" y="144360"/>
            <a:ext cx="842508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4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Microsoft YaHei"/>
              </a:rPr>
              <a:t>E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4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  <a:ea typeface="Microsoft YaHei"/>
              </a:rPr>
              <a:t>A) Using the topological below, write the routing table for Router A if it ru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48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Distance Victor 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48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Link State 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48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R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48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OS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4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icrosoft YaHei"/>
              </a:rPr>
              <a:t>B) What happens if the link between A &amp; D goes dow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78E16-E95F-4FAE-9CF2-99E53C425DA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Distance Victor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9880" y="1465200"/>
            <a:ext cx="84124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Each router knows directly connecte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Periodic updates are exchanges between adjacencies (nieghbour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0360" y="395280"/>
            <a:ext cx="8785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800" spc="-1" strike="noStrike">
                <a:solidFill>
                  <a:srgbClr val="0099cc"/>
                </a:solidFill>
                <a:latin typeface="Arial Rounded MT Bold"/>
              </a:rPr>
              <a:t>Initial routing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57120" y="2459160"/>
          <a:ext cx="2708280" cy="77472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57120" y="3311640"/>
          <a:ext cx="2708280" cy="75888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45960" y="4159080"/>
          <a:ext cx="2708280" cy="77472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85920" y="4997520"/>
          <a:ext cx="2708280" cy="774720"/>
        </p:xfrm>
        <a:graphic>
          <a:graphicData uri="http://schemas.openxmlformats.org/drawingml/2006/table">
            <a:tbl>
              <a:tblPr/>
              <a:tblGrid>
                <a:gridCol w="347400"/>
                <a:gridCol w="455760"/>
                <a:gridCol w="482400"/>
                <a:gridCol w="511200"/>
                <a:gridCol w="49716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72960" y="5875200"/>
          <a:ext cx="2708280" cy="77472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99880" y="1465200"/>
            <a:ext cx="841248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Dx(y) = minv {c(x,v) + Dv(y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Bellman Ford algorthem is calculated in each router to find the shortest path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0360" y="395280"/>
            <a:ext cx="8785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800" spc="-1" strike="noStrike">
                <a:solidFill>
                  <a:srgbClr val="0099cc"/>
                </a:solidFill>
                <a:latin typeface="Arial Rounded MT Bold"/>
              </a:rPr>
              <a:t>Initial routing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33320" y="2854440"/>
          <a:ext cx="2708280" cy="210348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8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620640" y="5616720"/>
            <a:ext cx="436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600" spc="-1" strike="noStrike">
                <a:solidFill>
                  <a:srgbClr val="3366cc"/>
                </a:solidFill>
                <a:latin typeface="Arial"/>
              </a:rPr>
              <a:t>We need to fill this table using the algortim so that each router knows the SP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Distance Victor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72960" y="1322280"/>
            <a:ext cx="84121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D</a:t>
            </a:r>
            <a:r>
              <a:rPr b="0" lang="fr-FR" sz="13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A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(D) = min {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c(</a:t>
            </a:r>
            <a:r>
              <a:rPr b="1" lang="fr-FR" sz="2000" spc="-1" strike="noStrike">
                <a:solidFill>
                  <a:srgbClr val="00ae00"/>
                </a:solidFill>
                <a:latin typeface="Arial Rounded MT Bold"/>
                <a:ea typeface="Microsoft YaHei"/>
              </a:rPr>
              <a:t>A,B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D</a:t>
            </a:r>
            <a:r>
              <a:rPr b="1" lang="fr-FR" sz="1300" spc="-1" strike="noStrike">
                <a:solidFill>
                  <a:srgbClr val="00ae00"/>
                </a:solidFill>
                <a:latin typeface="Arial Rounded MT Bold"/>
                <a:ea typeface="Microsoft YaHei"/>
              </a:rPr>
              <a:t>B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(</a:t>
            </a:r>
            <a:r>
              <a:rPr b="1" lang="fr-FR" sz="2000" spc="-1" strike="noStrike">
                <a:solidFill>
                  <a:srgbClr val="00ae00"/>
                </a:solidFill>
                <a:latin typeface="Arial Rounded MT Bold"/>
                <a:ea typeface="Microsoft YaHei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,    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c(</a:t>
            </a:r>
            <a:r>
              <a:rPr b="1" lang="fr-FR" sz="20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A,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 + D</a:t>
            </a:r>
            <a:r>
              <a:rPr b="1" lang="fr-FR" sz="13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(</a:t>
            </a:r>
            <a:r>
              <a:rPr b="1" lang="fr-FR" sz="20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,     c(</a:t>
            </a:r>
            <a:r>
              <a:rPr b="1" lang="fr-FR" sz="2000" spc="-1" strike="noStrike">
                <a:solidFill>
                  <a:srgbClr val="993366"/>
                </a:solidFill>
                <a:latin typeface="Arial Rounded MT Bold"/>
                <a:ea typeface="Microsoft YaHei"/>
              </a:rPr>
              <a:t>A,C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 + D</a:t>
            </a:r>
            <a:r>
              <a:rPr b="1" lang="fr-FR" sz="1300" spc="-1" strike="noStrike">
                <a:solidFill>
                  <a:srgbClr val="993366"/>
                </a:solidFill>
                <a:latin typeface="Arial Rounded MT Bold"/>
                <a:ea typeface="Microsoft YaHei"/>
              </a:rPr>
              <a:t>C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(</a:t>
            </a:r>
            <a:r>
              <a:rPr b="1" lang="fr-FR" sz="2000" spc="-1" strike="noStrike">
                <a:solidFill>
                  <a:srgbClr val="993366"/>
                </a:solidFill>
                <a:latin typeface="Arial Rounded MT Bold"/>
                <a:ea typeface="Microsoft YaHei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= min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 { (15+</a:t>
            </a: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∞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, (5+0),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(2+ 2</a:t>
            </a: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= min</a:t>
            </a:r>
            <a:r>
              <a:rPr b="0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 { ∞, 5, 4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D</a:t>
            </a:r>
            <a:r>
              <a:rPr b="0" lang="fr-FR" sz="13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(E) = min {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c(</a:t>
            </a:r>
            <a:r>
              <a:rPr b="1" lang="fr-FR" sz="2000" spc="-1" strike="noStrike">
                <a:solidFill>
                  <a:srgbClr val="00ae00"/>
                </a:solidFill>
                <a:latin typeface="Arial Rounded MT Bold"/>
              </a:rPr>
              <a:t>A,B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D</a:t>
            </a:r>
            <a:r>
              <a:rPr b="1" lang="fr-FR" sz="1300" spc="-1" strike="noStrike">
                <a:solidFill>
                  <a:srgbClr val="00ae00"/>
                </a:solidFill>
                <a:latin typeface="Arial Rounded MT Bold"/>
              </a:rPr>
              <a:t>B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1" lang="fr-FR" sz="2000" spc="-1" strike="noStrike">
                <a:solidFill>
                  <a:srgbClr val="00ae00"/>
                </a:solidFill>
                <a:latin typeface="Arial Rounded MT Bold"/>
              </a:rPr>
              <a:t>E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,    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c(</a:t>
            </a:r>
            <a:r>
              <a:rPr b="1" lang="fr-FR" sz="2000" spc="-1" strike="noStrike">
                <a:solidFill>
                  <a:srgbClr val="000080"/>
                </a:solidFill>
                <a:latin typeface="Arial Rounded MT Bold"/>
              </a:rPr>
              <a:t>A,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 + D</a:t>
            </a:r>
            <a:r>
              <a:rPr b="1" lang="fr-FR" sz="1300" spc="-1" strike="noStrike">
                <a:solidFill>
                  <a:srgbClr val="000080"/>
                </a:solidFill>
                <a:latin typeface="Arial Rounded MT Bold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1" lang="fr-FR" sz="2000" spc="-1" strike="noStrike">
                <a:solidFill>
                  <a:srgbClr val="000080"/>
                </a:solidFill>
                <a:latin typeface="Arial Rounded MT Bold"/>
              </a:rPr>
              <a:t>E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,     c(</a:t>
            </a:r>
            <a:r>
              <a:rPr b="1" lang="fr-FR" sz="2000" spc="-1" strike="noStrike">
                <a:solidFill>
                  <a:srgbClr val="993366"/>
                </a:solidFill>
                <a:latin typeface="Arial Rounded MT Bold"/>
              </a:rPr>
              <a:t>A,C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 + D</a:t>
            </a:r>
            <a:r>
              <a:rPr b="1" lang="fr-FR" sz="1300" spc="-1" strike="noStrike">
                <a:solidFill>
                  <a:srgbClr val="993366"/>
                </a:solidFill>
                <a:latin typeface="Arial Rounded MT Bold"/>
              </a:rPr>
              <a:t>C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1" lang="fr-FR" sz="2000" spc="-1" strike="noStrike">
                <a:solidFill>
                  <a:srgbClr val="993366"/>
                </a:solidFill>
                <a:latin typeface="Arial Rounded MT Bold"/>
              </a:rPr>
              <a:t>E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= min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 { (15+2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, (5+10),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(2+ </a:t>
            </a: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∞)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= min</a:t>
            </a:r>
            <a:r>
              <a:rPr b="0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 { 17, 15, ∞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A will update its entry with the bett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Note. The cost A-E is </a:t>
            </a:r>
            <a:r>
              <a:rPr b="1" lang="fr-FR" sz="18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NOT</a:t>
            </a:r>
            <a:r>
              <a:rPr b="0" lang="fr-FR" sz="18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the least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360" y="395280"/>
            <a:ext cx="8785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99cc"/>
                </a:solidFill>
                <a:latin typeface="Arial Rounded MT Bold"/>
              </a:rPr>
              <a:t>In router A: Calculate the Algorithm to reach B, C, D &amp;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Distance Victor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61920" y="4443480"/>
          <a:ext cx="2708280" cy="210348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8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372960" y="1322280"/>
            <a:ext cx="841212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D</a:t>
            </a:r>
            <a:r>
              <a:rPr b="0" lang="fr-FR" sz="13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B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(C) = min {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c(</a:t>
            </a:r>
            <a:r>
              <a:rPr b="1" lang="fr-FR" sz="2000" spc="-1" strike="noStrike">
                <a:solidFill>
                  <a:srgbClr val="00ae00"/>
                </a:solidFill>
                <a:latin typeface="Arial Rounded MT Bold"/>
                <a:ea typeface="Microsoft YaHei"/>
              </a:rPr>
              <a:t>B,A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D</a:t>
            </a:r>
            <a:r>
              <a:rPr b="1" lang="fr-FR" sz="1300" spc="-1" strike="noStrike">
                <a:solidFill>
                  <a:srgbClr val="00ae00"/>
                </a:solidFill>
                <a:latin typeface="Arial Rounded MT Bold"/>
                <a:ea typeface="Microsoft YaHei"/>
              </a:rPr>
              <a:t>A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(</a:t>
            </a:r>
            <a:r>
              <a:rPr b="1" lang="fr-FR" sz="2000" spc="-1" strike="noStrike">
                <a:solidFill>
                  <a:srgbClr val="00ae00"/>
                </a:solidFill>
                <a:latin typeface="Arial Rounded MT Bold"/>
                <a:ea typeface="Microsoft YaHei"/>
              </a:rPr>
              <a:t>C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,    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c(</a:t>
            </a:r>
            <a:r>
              <a:rPr b="1" lang="fr-FR" sz="20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B,E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 + D</a:t>
            </a:r>
            <a:r>
              <a:rPr b="1" lang="fr-FR" sz="13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E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(</a:t>
            </a:r>
            <a:r>
              <a:rPr b="1" lang="fr-FR" sz="2000" spc="-1" strike="noStrike">
                <a:solidFill>
                  <a:srgbClr val="000080"/>
                </a:solidFill>
                <a:latin typeface="Arial Rounded MT Bold"/>
                <a:ea typeface="Microsoft YaHei"/>
              </a:rPr>
              <a:t>C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)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= min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 { (15+</a:t>
            </a: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2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, (2+</a:t>
            </a:r>
            <a:r>
              <a:rPr b="0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∞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D</a:t>
            </a:r>
            <a:r>
              <a:rPr b="0" lang="fr-FR" sz="1300" spc="-1" strike="noStrike">
                <a:solidFill>
                  <a:srgbClr val="000000"/>
                </a:solidFill>
                <a:latin typeface="Arial Rounded MT Bold"/>
              </a:rPr>
              <a:t>B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(D) = min {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c(</a:t>
            </a:r>
            <a:r>
              <a:rPr b="1" lang="fr-FR" sz="2000" spc="-1" strike="noStrike">
                <a:solidFill>
                  <a:srgbClr val="00ae00"/>
                </a:solidFill>
                <a:latin typeface="Arial Rounded MT Bold"/>
              </a:rPr>
              <a:t>B,A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D</a:t>
            </a:r>
            <a:r>
              <a:rPr b="1" lang="fr-FR" sz="1300" spc="-1" strike="noStrike">
                <a:solidFill>
                  <a:srgbClr val="00ae00"/>
                </a:solidFill>
                <a:latin typeface="Arial Rounded MT Bold"/>
              </a:rPr>
              <a:t>A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1" lang="fr-FR" sz="2000" spc="-1" strike="noStrike">
                <a:solidFill>
                  <a:srgbClr val="00ae00"/>
                </a:solidFill>
                <a:latin typeface="Arial Rounded MT Bold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,     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c(</a:t>
            </a:r>
            <a:r>
              <a:rPr b="1" lang="fr-FR" sz="2000" spc="-1" strike="noStrike">
                <a:solidFill>
                  <a:srgbClr val="000080"/>
                </a:solidFill>
                <a:latin typeface="Arial Rounded MT Bold"/>
              </a:rPr>
              <a:t>B,E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 + D</a:t>
            </a:r>
            <a:r>
              <a:rPr b="1" lang="fr-FR" sz="1300" spc="-1" strike="noStrike">
                <a:solidFill>
                  <a:srgbClr val="000080"/>
                </a:solidFill>
                <a:latin typeface="Arial Rounded MT Bold"/>
              </a:rPr>
              <a:t>E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(</a:t>
            </a:r>
            <a:r>
              <a:rPr b="1" lang="fr-FR" sz="2000" spc="-1" strike="noStrike">
                <a:solidFill>
                  <a:srgbClr val="000080"/>
                </a:solidFill>
                <a:latin typeface="Arial Rounded MT Bold"/>
              </a:rPr>
              <a:t>D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)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= min</a:t>
            </a:r>
            <a:r>
              <a:rPr b="1" lang="fr-FR" sz="2000" spc="-1" strike="noStrike">
                <a:solidFill>
                  <a:srgbClr val="000000"/>
                </a:solidFill>
                <a:latin typeface="Arial Rounded MT Bold"/>
              </a:rPr>
              <a:t> { (15+5)</a:t>
            </a:r>
            <a:r>
              <a:rPr b="0" lang="fr-FR" sz="2000" spc="-1" strike="noStrike">
                <a:solidFill>
                  <a:srgbClr val="000000"/>
                </a:solidFill>
                <a:latin typeface="Arial Rounded MT Bold"/>
              </a:rPr>
              <a:t>, (2+10)</a:t>
            </a:r>
            <a:r>
              <a:rPr b="1" lang="fr-FR" sz="2000" spc="-1" strike="noStrike">
                <a:solidFill>
                  <a:srgbClr val="000000"/>
                </a:solidFill>
                <a:latin typeface="Sylfaen"/>
                <a:ea typeface="Microsoft YaHei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B will update its entry with the better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Notice that the cost from B to C is not the least cost beca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the network did not converage yet and it needs 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updates from the adjacenc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395280"/>
            <a:ext cx="8785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99cc"/>
                </a:solidFill>
                <a:latin typeface="Arial Rounded MT Bold"/>
              </a:rPr>
              <a:t>In router B: Calculate the Algorithm to reach A, C, D &amp;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Distance Victor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961920" y="4443480"/>
          <a:ext cx="2708280" cy="210348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8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ff"/>
                          </a:solidFill>
                          <a:latin typeface="Sylfaen"/>
                          <a:ea typeface="Microsoft YaHei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ff"/>
                          </a:solidFill>
                          <a:latin typeface="Sylfaen"/>
                          <a:ea typeface="Microsoft YaHei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∞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72960" y="2006640"/>
            <a:ext cx="84121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Notice the table, each column is exactly equal the same 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Column A = row 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Column B = row 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Final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360" y="1440000"/>
            <a:ext cx="8785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99cc"/>
                </a:solidFill>
                <a:latin typeface="Arial Rounded MT Bold"/>
              </a:rPr>
              <a:t>Every node will send triggered updates after any change in the t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200" spc="-1" strike="noStrike">
                <a:solidFill>
                  <a:srgbClr val="0099cc"/>
                </a:solidFill>
                <a:latin typeface="Arial Rounded MT Bold"/>
              </a:rPr>
              <a:t>After some time (exchanging updates) the network will converge and each node will have the shortest path to each destin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44880" y="3095640"/>
          <a:ext cx="4154760" cy="33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4880" y="3095640"/>
                    <a:ext cx="415476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535640" y="4387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600" spc="-1" strike="noStrike">
                <a:solidFill>
                  <a:srgbClr val="3366cc"/>
                </a:solidFill>
                <a:latin typeface="Arial"/>
              </a:rPr>
              <a:t>SPT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Distance Victor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61920" y="4335480"/>
          <a:ext cx="2708280" cy="210348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ff"/>
                          </a:solidFill>
                          <a:latin typeface="Sylfaen"/>
                          <a:ea typeface="Microsoft YaHe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8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99ff"/>
                          </a:solidFill>
                          <a:latin typeface="Sylfaen"/>
                          <a:ea typeface="Microsoft YaHei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579d1c"/>
                          </a:solidFill>
                          <a:latin typeface="Sylfaen"/>
                          <a:ea typeface="Microsoft YaHei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ff"/>
                          </a:solidFill>
                          <a:latin typeface="Sylfaen"/>
                          <a:ea typeface="Microsoft YaHei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ff"/>
                          </a:solidFill>
                          <a:latin typeface="Sylfaen"/>
                          <a:ea typeface="Microsoft YaHei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99ff"/>
                          </a:solidFill>
                          <a:latin typeface="Sylfaen"/>
                          <a:ea typeface="Microsoft YaHei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ff"/>
                          </a:solidFill>
                          <a:latin typeface="Sylfaen"/>
                          <a:ea typeface="Microsoft YaHei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ff0000"/>
                          </a:solidFill>
                          <a:latin typeface="Sylfaen"/>
                          <a:ea typeface="Microsoft YaHei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ae00"/>
                          </a:solidFill>
                          <a:latin typeface="Sylfaen"/>
                          <a:ea typeface="Microsoft YaHei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03280" y="3265560"/>
            <a:ext cx="84121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     </a:t>
            </a: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Final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Note : The cost to reach D is 1 since it is directly connected. Yet it would be better if  the packet went through 2 hops since the cost is less((2+2) &lt;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836640"/>
            <a:ext cx="87850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spcBef>
                <a:spcPts val="1701"/>
              </a:spcBef>
              <a:spcAft>
                <a:spcPts val="17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RIP is a Distance Victor routing protocol that uses hop count as the cost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RIP routing table is calculated the same way using Bellman Algorithm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When equal cost path are founded, the first update or the orignal entry is k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35640" y="4387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600" spc="-1" strike="noStrike">
                <a:solidFill>
                  <a:srgbClr val="3366cc"/>
                </a:solidFill>
                <a:latin typeface="Arial"/>
              </a:rPr>
              <a:t>SPT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RIP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V="1">
            <a:off x="5688000" y="3668760"/>
            <a:ext cx="1152360" cy="96192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04000" y="4843440"/>
            <a:ext cx="863640" cy="144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5111640"/>
            <a:ext cx="1008360" cy="64764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9280" y="3743280"/>
            <a:ext cx="1152720" cy="86364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61920" y="3687840"/>
          <a:ext cx="2708280" cy="210348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8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03280" y="3265560"/>
            <a:ext cx="8412120" cy="10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      </a:t>
            </a: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Final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 Rounded MT Bold"/>
                <a:ea typeface="Microsoft YaHei"/>
              </a:rPr>
              <a:t>Note : The cost reach D is 1 since it is directly connected. Yet it would be better if  the packet went through 2 hops since the cost is less((2+2) &lt;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836640"/>
            <a:ext cx="878508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43560" bIns="43560" anchor="b">
            <a:noAutofit/>
          </a:bodyPr>
          <a:p>
            <a:pPr>
              <a:lnSpc>
                <a:spcPct val="100000"/>
              </a:lnSpc>
              <a:spcBef>
                <a:spcPts val="1701"/>
              </a:spcBef>
              <a:spcAft>
                <a:spcPts val="17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RIP is a Distance Victor routing protocol that uses hop count as the cost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RIP routing table is calculated the same way using Bellman Algorithm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Arial Rounded MT Bold"/>
                <a:ea typeface="Microsoft YaHei"/>
              </a:rPr>
              <a:t>When equal cost path are founded, the first update or the orignal entry is k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35640" y="4387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1600" spc="-1" strike="noStrike">
                <a:solidFill>
                  <a:srgbClr val="3366cc"/>
                </a:solidFill>
                <a:latin typeface="Arial"/>
              </a:rPr>
              <a:t>SPT fo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12880" y="38160"/>
            <a:ext cx="462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000" spc="-1" strike="noStrike">
                <a:solidFill>
                  <a:srgbClr val="0000ff"/>
                </a:solidFill>
                <a:latin typeface="Arial Rounded MT Bold"/>
              </a:rPr>
              <a:t>IN RIP</a:t>
            </a:r>
            <a:r>
              <a:rPr b="1" lang="en-CA" sz="2200" spc="-1" strike="noStrike">
                <a:solidFill>
                  <a:srgbClr val="000080"/>
                </a:solidFill>
                <a:latin typeface="Arial Rounded MT Bol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859280" y="3095640"/>
          <a:ext cx="4176720" cy="33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095640"/>
                    <a:ext cx="4176720" cy="33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 flipV="1">
            <a:off x="5688000" y="3668760"/>
            <a:ext cx="1152360" cy="96192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04000" y="4843440"/>
            <a:ext cx="863640" cy="144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9280" y="5111640"/>
            <a:ext cx="1008360" cy="64764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99280" y="3743280"/>
            <a:ext cx="1152720" cy="863640"/>
          </a:xfrm>
          <a:prstGeom prst="line">
            <a:avLst/>
          </a:prstGeom>
          <a:ln cap="sq" w="6840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961920" y="3687840"/>
          <a:ext cx="2708280" cy="2103480"/>
        </p:xfrm>
        <a:graphic>
          <a:graphicData uri="http://schemas.openxmlformats.org/drawingml/2006/table">
            <a:tbl>
              <a:tblPr/>
              <a:tblGrid>
                <a:gridCol w="347760"/>
                <a:gridCol w="455760"/>
                <a:gridCol w="482400"/>
                <a:gridCol w="511200"/>
                <a:gridCol w="496800"/>
                <a:gridCol w="414360"/>
              </a:tblGrid>
              <a:tr h="402480">
                <a:tc>
                  <a:txBody>
                    <a:bodyPr lIns="90000" rIns="90000" tIns="810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4600" bIns="46800" anchor="b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8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575"/>
                        </a:spcBef>
                        <a:spcAft>
                          <a:spcPts val="575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500" spc="-1" strike="noStrike">
                          <a:solidFill>
                            <a:srgbClr val="000000"/>
                          </a:solidFill>
                          <a:latin typeface="Sylfaen"/>
                          <a:ea typeface="Microsoft YaHe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7:59:00Z</dcterms:created>
  <dc:creator>leboudec</dc:creator>
  <dc:description/>
  <dc:language>en-US</dc:language>
  <cp:lastModifiedBy/>
  <dcterms:modified xsi:type="dcterms:W3CDTF">2012-12-03T00:45:23Z</dcterms:modified>
  <cp:revision>383</cp:revision>
  <dc:subject/>
  <dc:title>Slide 1</dc:title>
</cp:coreProperties>
</file>